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9E-3A6A-43FF-8852-C1200C24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0C4-4D13-4DC1-9EC8-D0881D16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90F90-9FAC-42F8-B64C-193F5D14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95A28-2632-4317-8F30-70A9B36E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7891B-0F65-4D05-8413-F820AB5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5BAF3-B085-452C-84A0-8922D1A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6D164-8AA1-45F0-BC30-8E152FE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F2180-595C-4EAC-97F3-B9A4EA9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B13B-5D5E-4FAE-9B79-8D32B5B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92A7C-F290-44F7-8418-4485298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28AD0-249D-42FA-B279-6190F2CE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A2D2-6908-4C2F-8EBB-B19DF67B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DD2-E896-4493-8468-F265BF9A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6B2A-EE5D-435D-9BF3-65ED906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83374-976C-4BE1-A671-6182171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66491-EBC1-4C4B-B223-DDA92AA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0C256-DACD-4721-9839-19D3AC65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5C8F7-B530-47B1-B265-941AE1BB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EF5EB-B8E6-4471-B8CF-911E9C0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44A68-244C-47C8-A226-13DFFDA4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32C9A-1D76-4FD5-833D-F47649B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A5FE-5E88-4CEE-BA3F-4B39F87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838A2-CC86-4A66-90FA-7D999D65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CB7-6F2B-409C-B471-1F1DC92A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DF860-E94A-4DA7-8289-3EC68C38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18BA0-E6F8-4CB8-92EC-491BC4DD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42F0-A4CB-4B6C-8668-C792C2A0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98FD-D9E9-4345-BA88-D791BDB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4E3EE-9441-4F29-B735-3417BBF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14F0-CC35-4BDB-8FB0-C452455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ACD9-7076-43C7-B95F-5F0E1D1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20D6-C474-4925-A7CA-3373A77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117DD-2B38-4BC7-96C9-080F522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289BE-BCC9-4E9F-9ED1-255E118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067-8678-496E-AA54-66FED82F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19D6-72D1-48C1-85F2-CE19B164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294AA-BE31-4063-9D00-F2263FD2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23C55-789E-4A7D-BD32-830EEEA8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510E-56E0-49F1-BD76-6B4D6E2F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9A4F4-FD63-45E2-AFE2-F6268AD0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C8C1D-CC3F-4C46-A082-C138C350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F8EAF-6DDB-4CEA-90E7-90829A7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7D0D5-30C2-4C14-AAD0-AC67DC7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D1BE3-034C-4814-B080-F91D5702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EC121-55B5-4F7E-95CC-85B1B618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F47F-9908-473E-9F53-47B5C906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0F7E8-F1C6-4221-952E-21ADE30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256E1-1893-4750-BD38-066A5ED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C41CF-3C92-41E5-9FDE-58513E2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43430-F6A0-404D-8146-DA2CC76E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36DD4-783B-48F8-BE06-C76437FB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1DF-1274-4F0F-BCD7-F42D254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47BC-DFC4-4EF0-82D3-5001215B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FA0-3FF4-4F62-8EA1-FCFACBF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50B8-A4CE-4735-B58F-471B39B8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2F1-3AA4-49F1-977B-C726DE5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DD3-41C5-44AB-A0EA-C9419D4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8A00-711F-4A23-B83E-907EA2F2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9D50-EB53-410F-A756-19DDC9F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9BF-1269-4D45-99B9-20D7E78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8362-4BCC-457D-A1B5-9D48746A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A681-DBC4-400F-A684-0DF2F712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143C-D80E-4E6C-994B-9106CB2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403B-CAD9-4D45-94BD-5E408C8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9F4E-E581-480C-95B5-87EB709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B33F-D278-4044-9AD0-73B208B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0B5F-61E5-429B-AC6F-559A32E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774-BB9B-4C06-9A13-DB9F211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756B-48B3-410E-BDAE-4A3F011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2958-FAF1-4E5B-9DE5-B6CA8E9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3E7A-5F51-4962-A13F-218B9CD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793C-B4FE-4093-8BEA-EB16AE5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0D6A-209E-4797-AEDB-F3616C8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0939-CFF0-4A24-AF3D-1EEE6F44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3661-31A3-4F81-A516-8E1DDECF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CE38-B148-4643-B551-3FA3457E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AF87-0657-4C73-B5CB-1DD730F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4B81-095F-4AC1-8467-6A395005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D1A-64A6-4D74-8F0B-539A01FF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E080-CFA2-4348-AA33-F9397519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DFB2-156B-4C7C-8D1E-B0BD505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4A0B-6223-4CA5-89B9-213F7E3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59440-5C81-4249-B86D-4B700EF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A596-0E76-4F19-9019-909AAA3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7A5E-C987-430E-9E5E-88EA662A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45FD-3579-485C-8BA6-86D2D34A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8EA4-1D51-4896-93CE-03A27560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BDD6-1418-4EED-AA4F-82D3D3D5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8174-4AD4-4462-B981-38A4A44C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41E-BD80-48DD-AFF1-AB9ED59A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547B-BA72-460D-A177-3CAC250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F68B-2938-47B1-AB24-6F93322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CC7D-66A5-49F5-A600-2CEB0E6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3425-22D2-434D-B52F-A372CCF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0CC8-18C7-4AC9-A7C2-48598757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92B3-523B-4860-903F-ADDDC46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A1C5-742D-4960-8C5E-58F563D6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9986-BCD8-4BC1-ADE8-E495A46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D8D8-4AE4-487E-8701-19EE8EB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A011-CD91-4750-99BE-DFDE8913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C7F-A415-4DC8-ACF2-58E7BD9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1496-1FD8-41B9-95AF-4232FECA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AC6E-45A0-4063-934C-0C7B0596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1D50E-89AD-4003-A878-E56351BA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A050-FDDE-452B-BF20-A11AEA74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411AA-B6E3-4116-88B8-AD3E8B4F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2250E-E39A-473A-9DB6-1847C505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3AA1-7829-4A45-BC30-AFE35261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2472-329E-406E-A9D0-C82E7B0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5626-C9EE-43D5-BCDA-A04CB09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5236-DA9C-4E6F-B598-984D4C1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374-3EDE-4539-9048-AC0AD9E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91A0-612E-42DB-815A-4721852C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FA33-A6D8-42AD-9A65-38C33CC8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3CFAE-3A9F-4121-BC10-173E1B4C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25361-EB3D-4AD9-9CDC-EE34F3B5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F3A8-E554-4E13-92A0-AA6E9D6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7B6F-9E19-4113-9B57-C5C089E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A2A3-7EE9-4833-93B9-14182961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95E1-0000-4AC9-B977-DD5CA771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11B8-ADBB-4003-BF60-EEB19CA3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EB97-5CDF-4DB3-93C1-DA07F13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27D-C18B-4B84-8419-C3522AF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A228-CCBC-4359-ABD3-B4633707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10C84-FFE1-49AC-B649-91CA310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3FBE-0991-46F5-ABD3-959D00BC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9449-011A-468C-9F8B-C22E47F8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777C-06DE-4FA8-9CBF-6E8FD1C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8DC9-4515-4C29-9427-2C679B1B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5B98C-0E0A-4907-BD33-6D045F8D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4437B-A444-462A-823B-D055786E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D2452-CECF-49EF-8682-91996EAB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C885-0096-4BDE-9582-32DF612C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0B2-5B6E-4F93-81BA-4423B51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902F-5D45-496C-A376-11F7B5D4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3991-04AB-44C5-BCA8-6CC6FF4A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85E1-1D2F-4568-BBAD-084B205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5ADE-4F2A-4E84-8B50-6C801DC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A2685-4534-4031-A18F-45CE4FD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2DA8-EB4D-41A4-9E32-E05A5083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32E07-E389-49B8-B9D1-2F4F0E93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B53BC-EE00-4260-9D8F-151A033F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33680-18B9-4D46-A48B-BE5D622B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9040-2033-47B5-959C-26B37F27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887-4262-4BCB-85E0-12ADFA0FB6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8B2-63C1-4A28-B19F-38219777618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B394-D66A-4EC3-8618-9B6878C711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97F5-5346-41DE-BD68-18E5473BEC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E62-DA6D-48AF-AFDF-4B363F6079E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912-621C-4BFD-B566-A07E28F1A8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571-FAF4-4CA8-9AEA-3456B44020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84F1-8AE6-43CC-8936-70C0A44753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78F-938F-4C90-BB49-69051D19D1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FE3B-ABBB-4470-9957-A9F38C3E10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BEA6-F721-40DE-841E-1B44E2E73C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5D2-BBAC-4F5B-9EAE-059F95211E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7 Tebe len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sa ti viac podob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e len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voje srdce d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aveky byť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blaha v tebe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hriechu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elkom oči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 tebe sily zdr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ravej veľ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ba, môj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tále veleb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ojich túžob ci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s tebou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4:26Z</dcterms:modified>
  <cp:revision>21</cp:revision>
  <dc:subject/>
  <dc:title>Je veľký náš Pán, on slávy je Kráľ Nech do všetkých strán  spev vrúcnych znie chvál.</dc:title>
</cp:coreProperties>
</file>